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8FCD-7564-474C-B721-89C1EAAF7C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C2E-F64A-4FB8-BA81-B75847BDF33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54AB-C8C7-497A-818A-06E13D1B1B9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ADD4-76D6-4017-9814-C10353EA462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BD41-9F1E-4F81-B8EC-DD91E1DA6A5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27C7-A1AA-4109-9A4B-E42E19ECC30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105D-782B-4C70-A1B3-459A04D2303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5023-A805-42E1-B2DC-51E96A6E17D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D8B0-E14B-46C6-BD7B-0CA8BB012F7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AB3-5E8B-4A94-9D17-EB7ECD72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C01-C849-43C6-AA70-32FBBDB2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9FD-113F-47FC-AD98-05561942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EF7-E95F-4690-AA0C-FC845C47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9BFD-748A-480D-B63A-85FF45C8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1952-519E-48FD-8685-B108EE20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8DEC-6EC7-4C5A-A5FF-62818E06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E9FB-A486-4EC2-ABC9-2593A1BF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544F-147F-46A0-9114-C1DD2B38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28FF-14CC-4802-8390-674EC195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CCB2-AED8-4A92-95B8-38B5ACE9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234-8EF7-44C1-A004-51CA600D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9FBF-792D-4423-B6DD-46C6BDF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1A90-EF38-459D-B29A-F0E9E0F8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A445-E9C2-4692-9DBD-594A89D8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E9A7-2EE7-43F6-B98C-EA402D27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F9E8-DD23-4A46-BC25-0AC5C8E7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486-C9E3-45DB-90FF-BA7F47E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11E-1BA0-434D-980D-0B36BFFF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C47-A23D-46B2-9BE9-5F33BE9D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968-8790-4DC7-A991-2CA83537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D85-8305-4B48-BDCA-828FAE47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F85-8C0D-4D92-AB7F-080727A5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D8E-A740-406A-8C1E-DDD48B8C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B765-8BB2-444C-A8CF-91E60E5CF381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7D43-20E9-40CD-9E70-8F54503FBFF3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21036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Organizzazione e Pianificazione </a:t>
            </a:r>
            <a:br>
              <a:rPr sz="2800"/>
            </a:b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   del Trattamento D’Urgenza </a:t>
            </a:r>
            <a:br>
              <a:rPr sz="2800"/>
            </a:b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n Camera Iperbarica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Organization and planning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of emergency treatment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in hyperbaric chamber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62520" y="5181480"/>
            <a:ext cx="541944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Myriad Pro"/>
              </a:rPr>
              <a:t>D. Garb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Myriad Pro"/>
                <a:ea typeface="Arial"/>
              </a:rPr>
              <a:t>Resp. U.O.  di Medicina Subacquea ed Iperba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Myriad Pro"/>
                <a:ea typeface="Arial"/>
              </a:rPr>
              <a:t>Università degli Studi di Palermo. D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Myriad Pro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CasellaDiTesto 6"/>
          <p:cNvSpPr/>
          <p:nvPr/>
        </p:nvSpPr>
        <p:spPr>
          <a:xfrm>
            <a:off x="3886200" y="380988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Myriad Pro"/>
              </a:rPr>
              <a:t>Salvatore Va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Myriad Pro"/>
              </a:rPr>
              <a:t>Direttore U.O.C Anestesia Rianim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Myriad Pro"/>
              </a:rPr>
              <a:t>Ospedale Vittorio Emanuel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Myriad Pro"/>
              </a:rPr>
              <a:t>ASP 9 TP Salemi (T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Immagine 6" descr="Snapz Pro XScreenSnapz002_thumb.jpg"/>
          <p:cNvPicPr/>
          <p:nvPr/>
        </p:nvPicPr>
        <p:blipFill>
          <a:blip r:embed="rId1"/>
          <a:stretch/>
        </p:blipFill>
        <p:spPr>
          <a:xfrm>
            <a:off x="60948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487440"/>
            <a:ext cx="8458200" cy="1666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MALATTIA DA DECOMPRESSIONE: OBIETTIV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7194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SATURAZION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IDUZIONE DEL DIAMETRO DELLA BO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OSSIGENAZIONE  e RIDUZIONE DELL’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asellaDiTesto 3"/>
          <p:cNvSpPr/>
          <p:nvPr/>
        </p:nvSpPr>
        <p:spPr>
          <a:xfrm>
            <a:off x="3657600" y="57913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7th European Consensus Conference on HyperbaricMedicine, Lille (Fr),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FLOW CHART DAN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flow"/>
          <p:cNvPicPr/>
          <p:nvPr/>
        </p:nvPicPr>
        <p:blipFill>
          <a:blip r:embed="rId1"/>
          <a:stretch/>
        </p:blipFill>
        <p:spPr>
          <a:xfrm>
            <a:off x="1474920" y="830160"/>
            <a:ext cx="619272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 ogni caso il medico del PS dovr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Non di Immediato Interesse Rianimato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omministrare ossigeno normobarico per almeno 30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fondere liquidi E.V. (preferibilmente Ringer Latta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enere sotto osservazione il p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tattare il Centro Iperbarico già allerta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asellaDiTesto 3"/>
          <p:cNvSpPr/>
          <p:nvPr/>
        </p:nvSpPr>
        <p:spPr>
          <a:xfrm>
            <a:off x="762120" y="457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Arial"/>
              </a:rPr>
              <a:t>FASE ACCETTAZIONE DEL PAZIENTE IN 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asellaDiTesto 3"/>
          <p:cNvSpPr/>
          <p:nvPr/>
        </p:nvSpPr>
        <p:spPr>
          <a:xfrm>
            <a:off x="2438280" y="6095880"/>
            <a:ext cx="640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Barach, Paul MD, MPH Management of the Critically Ill Patient in the Hyperbaric Chamber; 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International Anesthesiology Clinics Issue: Volume 38(1), Winter 2000, pp 153-16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523520"/>
            <a:ext cx="9144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tatus neurologico (Test Neuropsicometric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ccesso venoso sic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e Sospetto barotrauma polmonare: radiografia del torace 2 incidenze, o(meglio) TAC torace (Tempo permettendo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atetere vescicale, se necessar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renaggio toracico, se necessar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el paziente intubato, riempire il palloncino del tubo endotracheale con del li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CasellaDiTesto 3"/>
          <p:cNvSpPr/>
          <p:nvPr/>
        </p:nvSpPr>
        <p:spPr>
          <a:xfrm>
            <a:off x="228600" y="457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Misure prima del primo trattamento in C.I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sellaDiTesto 3"/>
          <p:cNvSpPr/>
          <p:nvPr/>
        </p:nvSpPr>
        <p:spPr>
          <a:xfrm>
            <a:off x="4942080" y="6172200"/>
            <a:ext cx="383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Committee Report UHMS del 2008- Guidlin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 Camera Iperbar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ase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gistrazione dati personal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pilazione cartella clinica del servizio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ase 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irma consenso informa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struzione pratica del paziente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ase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attamento terapeutico del paz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ase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missione diret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sservazione P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icovero reparto ordinario; (ricovero rianimazione) DEAU III°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CasellaDiTesto 3"/>
          <p:cNvSpPr/>
          <p:nvPr/>
        </p:nvSpPr>
        <p:spPr>
          <a:xfrm>
            <a:off x="3352680" y="6324480"/>
            <a:ext cx="579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Committee Report UHMS del 2008- Guidlin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Arial"/>
              </a:rPr>
              <a:t>Proseguimento della terapia </a:t>
            </a:r>
            <a:br>
              <a:rPr sz="2800"/>
            </a:br>
            <a:r>
              <a:rPr b="1" lang="it-IT" sz="2800" spc="-1" strike="noStrike">
                <a:solidFill>
                  <a:srgbClr val="ff9900"/>
                </a:solidFill>
                <a:latin typeface="Arial"/>
              </a:rPr>
              <a:t>in camera iperbarica (Deau III° Liv.) 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iagnostica: in funzione dei sintomi clinici RMN , Tac, Esame Neurologico e Pneumolo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ecisione sul termine del trattamento in Camera Iperbarica: Rivalutazioni frequenti delle condizioni cliniche dall’incid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rattamenti Medicamentosi: Fluidoterapia, (Cortisone). Si sta considerando da poco il trattamento con Lidocaina (Castaldi, SIMSI 2008) in infusione continua (1-3 mg/kg/hr x 3-4 gg) sin dall’inizio del ricovero, ma mancano evidenze ce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iabilitazione: Continuazione diretta della terapia Iperbarica (può iniziare anche durante i trattamenti dopo il terzo giorn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ocument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asellaDiTesto 3"/>
          <p:cNvSpPr/>
          <p:nvPr/>
        </p:nvSpPr>
        <p:spPr>
          <a:xfrm>
            <a:off x="221760" y="6400800"/>
            <a:ext cx="331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Committee Report UHMS del 2008- Guidlin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CasellaDiTesto 4"/>
          <p:cNvSpPr/>
          <p:nvPr/>
        </p:nvSpPr>
        <p:spPr>
          <a:xfrm>
            <a:off x="5105520" y="632448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M. Brauzzi La terapia ricompressiva nella PDD www.timeoutintensiva.it N° 9 Focus Aprile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Posologia Trattamento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DD e EGA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CasellaDiTesto 2"/>
          <p:cNvSpPr/>
          <p:nvPr/>
        </p:nvSpPr>
        <p:spPr>
          <a:xfrm>
            <a:off x="914400" y="2286000"/>
            <a:ext cx="7772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li incidenti più gravi sono trattati con tabelle iperossigenate con pressione moderate (Tab. 6 US Navy) o alte pressioni (Comex CX30). Gli incidenti meno gravi o forme dolorose possono essere trattate con tabelle in ossigeno puro (Tab. 5 o 6 USNav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l protocollo di trattamento successivo alla ricompressione iniziale (terapia di consolidamento) deve prevedere una durata massima di 10 seduteOTI o la prosecuzione fino alla stabilizzazione del quadro clin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CasellaDiTesto 3"/>
          <p:cNvSpPr/>
          <p:nvPr/>
        </p:nvSpPr>
        <p:spPr>
          <a:xfrm>
            <a:off x="2819520" y="5715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inee guida sulle indicazioni all’ossigenoterapia iperbarica SIMSI/ANCIP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sellaDiTesto 1"/>
          <p:cNvSpPr/>
          <p:nvPr/>
        </p:nvSpPr>
        <p:spPr>
          <a:xfrm>
            <a:off x="1327320" y="1219320"/>
            <a:ext cx="67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Arial"/>
              </a:rPr>
              <a:t>DIAGNOSI DI INTOSSICAZIONE DA 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CasellaDiTesto 2"/>
          <p:cNvSpPr/>
          <p:nvPr/>
        </p:nvSpPr>
        <p:spPr>
          <a:xfrm>
            <a:off x="380880" y="2895480"/>
            <a:ext cx="8610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MEDIATO PRELIEVO PER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ARBOSSIEMOGLOBINEMIA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 CONTEMPORANEO TRASFERIMENTO AL CENT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PERBARICO PIÙ VIC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 Basta La Sola Misurazione della Carbossiemoglobin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(e la positività anamnestica dell’ inalazi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CasellaDiTesto 3"/>
          <p:cNvSpPr/>
          <p:nvPr/>
        </p:nvSpPr>
        <p:spPr>
          <a:xfrm>
            <a:off x="3505320" y="5638680"/>
            <a:ext cx="510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C. Locatelli Intossicazione acuta da monossido di carbonio:il punto di vista del tossicologo Medicina Subacquea e Iperbarica N. 2 - Giugno 2009 9</a:t>
            </a: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magine 1" descr="Snapz Pro XScreenSnapz002.jpg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4495680"/>
          </a:xfrm>
          <a:prstGeom prst="rect">
            <a:avLst/>
          </a:prstGeom>
          <a:ln w="0">
            <a:noFill/>
          </a:ln>
        </p:spPr>
      </p:pic>
      <p:sp>
        <p:nvSpPr>
          <p:cNvPr id="156" name="CasellaDiTesto 2"/>
          <p:cNvSpPr/>
          <p:nvPr/>
        </p:nvSpPr>
        <p:spPr>
          <a:xfrm>
            <a:off x="-488520" y="228600"/>
            <a:ext cx="90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Arial"/>
              </a:rPr>
              <a:t>            </a:t>
            </a: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Classi di Gravità degli Intossicati da 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CasellaDiTesto 3"/>
          <p:cNvSpPr/>
          <p:nvPr/>
        </p:nvSpPr>
        <p:spPr>
          <a:xfrm>
            <a:off x="2590920" y="59436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C. Locatelli Intossicazione acuta da monossido di carbonio:il punto di vista del tossicologo Medicina Subacquea e Iperbarica N. 2 - Giugno 2009 9</a:t>
            </a: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1"/>
          <p:cNvSpPr/>
          <p:nvPr/>
        </p:nvSpPr>
        <p:spPr>
          <a:xfrm>
            <a:off x="1143000" y="6858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rial"/>
              </a:rPr>
              <a:t>Criteri di inclusione: LINEE  GUIDA SIMSI/ANCIP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Z. CON MOMENTANEA PERDITA DI COSCIE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Z. IN C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Z. CON SINTOMI NEUROPSICHIATR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Z. CON ACIDOSI METABOLICA SCOMPENS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Z CON DOLORE TORACICO E SEGNI ECG DI ISCHEMIA MIOCARD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RITM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Z. IN GRAVIDA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Z. ASINTOMATICI CON COHB &gt; 25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BAMBINI ASINTOMATICI CON ETÀ &lt; 12ANNI CON: COHB &gt; 10%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Z. ASINTOMATICI CON PREGRESSA ISCHEMIA MIOCARDICA CON COHB &gt; 15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mergenze Iperbarich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164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mbolia gassosa arteri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alattia da decompressione subacqu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tossicazione da monossido di carb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asellaDiTesto 4"/>
          <p:cNvSpPr/>
          <p:nvPr/>
        </p:nvSpPr>
        <p:spPr>
          <a:xfrm>
            <a:off x="5486400" y="28954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Ministero della Sanità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23.12.19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DPS VI /4.6./8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CasellaDiTesto 1"/>
          <p:cNvSpPr/>
          <p:nvPr/>
        </p:nvSpPr>
        <p:spPr>
          <a:xfrm>
            <a:off x="0" y="83808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Tahoma"/>
              </a:rPr>
              <a:t>INTOSSICAZIONE DA CO: OBIETTI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asellaDiTesto 2"/>
          <p:cNvSpPr/>
          <p:nvPr/>
        </p:nvSpPr>
        <p:spPr>
          <a:xfrm>
            <a:off x="304920" y="1905120"/>
            <a:ext cx="1172052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mediata saturazione del plasma con O</a:t>
            </a:r>
            <a:r>
              <a:rPr b="0" lang="it-IT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ufficiente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stenere la vita ed a combattere l’ipossia tissuta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lgrado gli alti livelli di COHb circol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zione  di massa grazie alla quale si verifica una rap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iduzione dei livelli di COH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zione nei confronti del legame della CO con i citocrom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</a:t>
            </a:r>
            <a:r>
              <a:rPr b="0" lang="it-IT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ssidasi e P</a:t>
            </a:r>
            <a:r>
              <a:rPr b="0" lang="it-IT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50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e la mioglob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iduzione della pressione intra-cranica (edema cerebr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vocata dalle alte concentrazioni di O</a:t>
            </a:r>
            <a:r>
              <a:rPr b="0" lang="it-IT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CasellaDiTesto 3"/>
          <p:cNvSpPr/>
          <p:nvPr/>
        </p:nvSpPr>
        <p:spPr>
          <a:xfrm>
            <a:off x="3657600" y="60958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G. Vezzani Perché trattare la intossicazione acuta da CO con ossigeno iperbarico? Medicina Subacquea e Iperbarica N. 2 - Giugno 2007 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asellaDiTesto 1"/>
          <p:cNvSpPr/>
          <p:nvPr/>
        </p:nvSpPr>
        <p:spPr>
          <a:xfrm>
            <a:off x="1219320" y="9144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POSOLOGIA TRATTAMENTO INTOSSICAZIONE DA 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CasellaDiTesto 2"/>
          <p:cNvSpPr/>
          <p:nvPr/>
        </p:nvSpPr>
        <p:spPr>
          <a:xfrm>
            <a:off x="1295280" y="2590920"/>
            <a:ext cx="723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 tempi terapeutici sono variabili ma la pressione deve essere compresa tra 1.9 e 2.8 ATA (massima nelle prime sedut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on si ritiene utile continuare la terapia oltre la 5a sedu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CasellaDiTesto 3"/>
          <p:cNvSpPr/>
          <p:nvPr/>
        </p:nvSpPr>
        <p:spPr>
          <a:xfrm>
            <a:off x="2895480" y="571500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inee guida sulle indicazioni all’ossigenoterapia iperbarica SIMSI/ANCIP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Arial"/>
              </a:rPr>
              <a:t>Planning Urgenze in C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CasellaDiTesto 19"/>
          <p:cNvSpPr/>
          <p:nvPr/>
        </p:nvSpPr>
        <p:spPr>
          <a:xfrm>
            <a:off x="457200" y="1066680"/>
            <a:ext cx="769608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ercorso (Emergenza) Paziente dal PS alla Camera Iperba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3  i fondam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liminazione concettuale degli “Episodi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ormazione degli operatori al percor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) Riconoscimento di Un Unico processo frutto d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asi Temporali e Cliniche Rapide, Interconnesse ed Interdipendenti                                                            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ultidisciplinarietà e Appropriatezza di Intev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CasellaDiTesto 3"/>
          <p:cNvSpPr/>
          <p:nvPr/>
        </p:nvSpPr>
        <p:spPr>
          <a:xfrm>
            <a:off x="762120" y="6095880"/>
            <a:ext cx="80769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0000"/>
                </a:solidFill>
                <a:latin typeface="Arial"/>
              </a:rPr>
              <a:t>Warren J, Fromm RE, Orr RA, Rotello LC, Horst HM: Guidelines for the inter- and intrahospital transport of critically illpatients. </a:t>
            </a:r>
            <a:r>
              <a:rPr b="0" i="1" lang="it-IT" sz="1100" spc="-1" strike="noStrike">
                <a:solidFill>
                  <a:srgbClr val="ff0000"/>
                </a:solidFill>
                <a:latin typeface="Arial"/>
              </a:rPr>
              <a:t>Crit Care Med 2004, 32:256-262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ATOLOGIE COMUNQUE DA RITENERSI URGENTI PER IL TRATTAMENTO CON HBO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Gangrena Gassosa da Clostri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indrome di Fournier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rush Synd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00"/>
                </a:solidFill>
                <a:latin typeface="Tahoma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it-IT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it-IT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it-IT" sz="2800" spc="-1" strike="noStrike">
                <a:solidFill>
                  <a:srgbClr val="ffff00"/>
                </a:solidFill>
                <a:latin typeface="Tahoma"/>
              </a:rPr>
              <a:t>                     </a:t>
            </a: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SIMSI - SIAAR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                                                  </a:t>
            </a: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CONSENSUS CONFERENCE LILLE 1994</a:t>
            </a:r>
            <a:r>
              <a:rPr b="0" i="1" lang="it-IT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ratteristiche Comu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ologie ad insorgenza acuta con evoluzione rapidamente sfavorevo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 le più esposte ai danni derivanti dalla discontinuità delle c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i esiti sono fortemente condizionati dal fattore tem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asellaDiTesto 3"/>
          <p:cNvSpPr/>
          <p:nvPr/>
        </p:nvSpPr>
        <p:spPr>
          <a:xfrm>
            <a:off x="76212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00"/>
                </a:solidFill>
                <a:latin typeface="Arial"/>
              </a:rPr>
              <a:t>Principali Urgenze iperbaric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CasellaDiTesto 3"/>
          <p:cNvSpPr/>
          <p:nvPr/>
        </p:nvSpPr>
        <p:spPr>
          <a:xfrm>
            <a:off x="3276720" y="5867280"/>
            <a:ext cx="563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Warren J, Fromm RE, Orr RA, Rotello LC, Horst HM: Guidelines for the inter- and intrahospital transport of critically illpatients. </a:t>
            </a:r>
            <a:r>
              <a:rPr b="0" i="1" lang="it-IT" sz="1400" spc="-1" strike="noStrike">
                <a:solidFill>
                  <a:srgbClr val="ff0000"/>
                </a:solidFill>
                <a:latin typeface="Arial"/>
              </a:rPr>
              <a:t>Crit Care Med 2004, 32:256-26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egrare le funzioni dell' emergenza, preposte alla gestione della stes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ioè realizzare un percorso complesso (molteplici sottosistemi) PS&gt; (U T I) &gt; CI, che risponda ad una logica di tempestività, appropriatezza e continuità delle cure necessar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CasellaDiTesto 4"/>
          <p:cNvSpPr/>
          <p:nvPr/>
        </p:nvSpPr>
        <p:spPr>
          <a:xfrm>
            <a:off x="1143000" y="3808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00"/>
                </a:solidFill>
                <a:latin typeface="Arial"/>
              </a:rPr>
              <a:t>Realizzare Un Planning delle Urgenze Iperbariche Signific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CasellaDiTesto 3"/>
          <p:cNvSpPr/>
          <p:nvPr/>
        </p:nvSpPr>
        <p:spPr>
          <a:xfrm>
            <a:off x="609480" y="6248520"/>
            <a:ext cx="71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Warren J, Fromm RE, Orr RA, Rotello LC, Horst HM: Guidelines for the inter- and intrahospital transport of critically illpatients. </a:t>
            </a:r>
            <a:r>
              <a:rPr b="0" i="1" lang="it-IT" sz="1400" spc="-1" strike="noStrike">
                <a:solidFill>
                  <a:srgbClr val="ff0000"/>
                </a:solidFill>
                <a:latin typeface="Arial"/>
              </a:rPr>
              <a:t>Crit Care Med 2004, 32:256-26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304920"/>
            <a:ext cx="8785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00"/>
                </a:solidFill>
                <a:latin typeface="Arial"/>
                <a:ea typeface="Arial"/>
              </a:rPr>
              <a:t>Planning Emergenza Iperbaric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  <a:ea typeface="Arial"/>
              </a:rPr>
              <a:t>Cinque Capisaldi Fondamentali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1) Appropriatezza di Interv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2) Conoscen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3) Cooperazion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4) Coordina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5) Formazione degli Operatori: Il più impor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CasellaDiTesto 2"/>
          <p:cNvSpPr/>
          <p:nvPr/>
        </p:nvSpPr>
        <p:spPr>
          <a:xfrm>
            <a:off x="228600" y="6019920"/>
            <a:ext cx="853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Lovell MA, Mudaliar MY, Klineberg PL: Intrahospital transport of critically ill patients: complications and difficulties.</a:t>
            </a:r>
            <a:r>
              <a:rPr b="0" i="1" lang="it-IT" sz="1400" spc="-1" strike="noStrike">
                <a:solidFill>
                  <a:srgbClr val="ff0000"/>
                </a:solidFill>
                <a:latin typeface="Arial"/>
              </a:rPr>
              <a:t>Anaesth Intensive Care 2001, 29:400-4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) Identificazione dell’Iperbarista di riferimento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) Reperimento del personale nel minor tempo possibile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) Conoscenza dei singoli ruoli ed azioni assegnati alle figure coinvolte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) Ridurre al minimo i tempi di trasporto alla C.I.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) Definizione di Protocolli Condivisi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) Migliorare La Formazione di Medici Tecnici e Nurse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CasellaDiTesto 2"/>
          <p:cNvSpPr/>
          <p:nvPr/>
        </p:nvSpPr>
        <p:spPr>
          <a:xfrm>
            <a:off x="0" y="22860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Arial"/>
              </a:rPr>
              <a:t>Punti Di Sviluppo Per Elev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00"/>
                </a:solidFill>
                <a:latin typeface="Arial"/>
              </a:rPr>
              <a:t>La Percentuale di Successi Terapeuti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CasellaDiTesto 3"/>
          <p:cNvSpPr/>
          <p:nvPr/>
        </p:nvSpPr>
        <p:spPr>
          <a:xfrm>
            <a:off x="838080" y="6248520"/>
            <a:ext cx="80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Barach, Paul MD, MPH Management of the Critically Ill Patient in the Hyperbaric Chamber; 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International Anesthesiology Clinics Issue: Volume 38(1), Winter 2000, pp 153-16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Arial"/>
              </a:rPr>
              <a:t>Intervento : Distinguiamo 4 fasi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1599840"/>
            <a:ext cx="9296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SE PREALLARME E REPERIMENTO DEL PERSON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SE ACCETTAZIONE DEL PAZIENTE IN 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SE TRASFERIMENTO PAZIENTE IN C.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SE DEL TRATTAMENTO IN CAMERA IPERBA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Fase del trasferimento ad un DEAU di III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ivello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CasellaDiTesto 3"/>
          <p:cNvSpPr/>
          <p:nvPr/>
        </p:nvSpPr>
        <p:spPr>
          <a:xfrm>
            <a:off x="4191120" y="61722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Committee Report UHMS del 2008- Guidlin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989840" cy="134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EMBOLIA GASSOSA ARTERIOSA: OBIETTI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207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IDUZIONE DEL DIAMETRO DELL’EMBO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OSSIGENAZIONE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SATURAZIONE DEI TESSU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asellaDiTesto 3"/>
          <p:cNvSpPr/>
          <p:nvPr/>
        </p:nvSpPr>
        <p:spPr>
          <a:xfrm>
            <a:off x="4343400" y="57913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7th European Consensus Conference on HyperbaricMedicine, Lille (Fr),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17:52Z</dcterms:created>
  <dc:creator>Ugo</dc:creator>
  <dc:description/>
  <cp:keywords/>
  <dc:language>en-US</dc:language>
  <cp:lastModifiedBy>MacBook</cp:lastModifiedBy>
  <dcterms:modified xsi:type="dcterms:W3CDTF">2010-07-19T22:33:52Z</dcterms:modified>
  <cp:revision>146</cp:revision>
  <dc:subject/>
  <dc:title>Presentazione standard di PowerPoint  -  Diapositiva 1</dc:title>
</cp:coreProperties>
</file>